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BAC-1FD5-4540-AB53-0485DB75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BBB-1555-4EE1-941E-37085D8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9D6-0218-4C86-ABD9-6251DC93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04F-91B0-4251-9BB2-238AECCE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444-6D0C-4779-B5FE-41F00FB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5BE-E22E-4E18-AE04-DE3F111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745-048C-4A3F-B01D-9469EA64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2CC-082D-4455-9915-6A3586F0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093-B990-4D9F-8DFC-D68B7F5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101-8E9D-4420-9E14-2C4A0342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ED7-2B2F-4301-81EC-29A4C90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B43-BFD6-4CF5-AB35-793CEED9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D661-2E58-40FE-8AAF-1901CED5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wstaylor.net/walls/vista/Vista%2520Starter%2520Edition%2520Beta%25202%2520-%2520img735.jpg&amp;imgrefurl=http://1001downloads.blogs.sapo.pt/tag/wallpapers&amp;h=768&amp;w=1024&amp;sz=414&amp;tbnid=b39duEuqPClERM:&amp;tbnh=113&amp;tbnw=150&amp;prev=/images%3Fq%3Dpaisagens%2Blindas&amp;hl=pt-BR&amp;usg=__xrLgHqeeex4nlJSO2H39_ZwO85A=&amp;ei=1DIgSqb2Mt2ftgfJkMXOBg&amp;sa=X&amp;oi=image_result&amp;resnum=4&amp;ct=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-1108080"/>
            <a:ext cx="11988720" cy="8255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ção do Exíli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nçalves 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176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rra tem palmeir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ves, que aqui gorje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Gorjeiam como l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Já imaginou você deitado numa rede dessas?"/>
          <p:cNvPicPr/>
          <p:nvPr/>
        </p:nvPicPr>
        <p:blipFill>
          <a:blip r:embed="rId1"/>
          <a:stretch/>
        </p:blipFill>
        <p:spPr>
          <a:xfrm>
            <a:off x="-900000" y="4680"/>
            <a:ext cx="109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765440" y="333360"/>
            <a:ext cx="1065384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252720" y="907920"/>
            <a:ext cx="80247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o céu tem mais estrel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as várzeas têm mais flor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os bosques têm mais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ssa vida mais am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9440" y="0"/>
            <a:ext cx="11754000" cy="764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1011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cismar, sozinho, à no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prazer eu encontro lá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rra tem palmeir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67720" y="7029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1001downloads.blogs.sapo.pt/tag/wallpap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-603360"/>
            <a:ext cx="10872720" cy="819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7396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ha terra tem primor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 tais não encontro eu cá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m cismar sozinho, à noi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is prazer eu encontro lá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ha terra tem palmeira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de canta o Sabiá.</a:t>
            </a:r>
            <a:br>
              <a:rPr sz="4800"/>
            </a:b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0753920" cy="6978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Não permita Deus que eu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morra,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Sem que eu volte para lá;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Sem que desfrute os primores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Que não encontro por cá;;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Sem quinda aviste as palmeiras,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Professora Delci Aparecida  Ávila Bittencou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Escola Estadual Senador Filinto Mülle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Curso CBIV – 2009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Orientação: Profª M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8:07:20Z</dcterms:created>
  <dc:creator>Escola</dc:creator>
  <dc:description/>
  <dc:language>en-US</dc:language>
  <cp:lastModifiedBy>Escola</cp:lastModifiedBy>
  <dcterms:modified xsi:type="dcterms:W3CDTF">2009-06-25T17:53:27Z</dcterms:modified>
  <cp:revision>4</cp:revision>
  <dc:subject/>
  <dc:title>Canção do Exílio Gonçalves Dias</dc:title>
</cp:coreProperties>
</file>